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82A-2D3D-4F1D-8DAB-E1565D47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329-6D5E-4D6B-A3BD-B16A168B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ECB-28AE-4A62-8A9D-F054E5FB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D79-6E03-4F8A-BA02-0B5E2AD1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CC1-BA7D-4BE8-B32F-F80F8C69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997-109A-46D8-AE3B-612E8C4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FAD-6625-4BEC-B66F-8AE4FCD5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2E7-820C-4FAD-BF28-F8AF6606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DF7-5906-4058-83A1-5BBD70B7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602-BDB6-4854-B850-CFD0740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065-4053-48D7-A7CC-EC10996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E76-C02C-47F3-9802-93AE2C9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5BB-01E1-461B-A42C-08EF4819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-76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7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NKLANDS  ASSOC.                              AIRDRIE                                            AIRDRIE                                 AIRDRIE  150TH           AIRDRIE  NEW   CLUB  &amp;  MILLENNIUM         AIRDRIE - CENTRAL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1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RDRIE - CENTRAL                             BAILLIESTON                                 BAILLIESTON                             BAILLIESTON                        BAILLIESTON  MILLENNIUM                 BAIRDS  SCOT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2971800"/>
            <a:ext cx="121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932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HILL                            BELLSHILL  &amp;  MOSSEND    BELLSHILL  &amp;  MOSSEND  100TH      B.S.C. (COATDYKE)                        B S C.( COATDYKE )  75TH                             BURN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BURNHEAD                                    BURNHEAD  50TH                        CALDERBANK                                      CALDERBANK                                CALDERCRA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47926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8880" y="476280"/>
            <a:ext cx="1133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7324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84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024520" y="47628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68196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88880" y="2133720"/>
            <a:ext cx="1116000" cy="105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2144880" y="22766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3584520" y="2205000"/>
            <a:ext cx="11527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6681960" y="2205000"/>
            <a:ext cx="877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415800" y="3645000"/>
            <a:ext cx="131616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2073240" y="3645000"/>
            <a:ext cx="1189080" cy="128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440160" y="364500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8193240" y="378936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560520" y="558972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5097600" y="5589720"/>
            <a:ext cx="107928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6608880" y="5373720"/>
            <a:ext cx="1371600" cy="1279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4952880" y="3860640"/>
            <a:ext cx="1170000" cy="109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8265960" y="5589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8193240" y="21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8193240" y="476280"/>
            <a:ext cx="10540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1"/>
          <a:stretch/>
        </p:blipFill>
        <p:spPr>
          <a:xfrm>
            <a:off x="6608880" y="3789360"/>
            <a:ext cx="11476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2"/>
          <a:stretch/>
        </p:blipFill>
        <p:spPr>
          <a:xfrm>
            <a:off x="3728880" y="5516640"/>
            <a:ext cx="1155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3"/>
          <a:stretch/>
        </p:blipFill>
        <p:spPr>
          <a:xfrm>
            <a:off x="2144880" y="5589720"/>
            <a:ext cx="107604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4"/>
          <a:stretch/>
        </p:blipFill>
        <p:spPr>
          <a:xfrm>
            <a:off x="4952880" y="2133720"/>
            <a:ext cx="12384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8:10:15Z</dcterms:created>
  <dc:creator>JOHN YOUNG</dc:creator>
  <dc:description/>
  <dc:language>en-US</dc:language>
  <cp:lastModifiedBy>JY</cp:lastModifiedBy>
  <cp:lastPrinted>2000-01-13T17:07:12Z</cp:lastPrinted>
  <dcterms:modified xsi:type="dcterms:W3CDTF">2008-05-20T08:03:32Z</dcterms:modified>
  <cp:revision>29</cp:revision>
  <dc:subject/>
  <dc:title>No Slide Title</dc:title>
</cp:coreProperties>
</file>